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726E-D432-4E61-BFFC-7DC8A532C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327-B0BB-4E5D-8566-DD21E2F1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242-9F34-41E4-9599-FF0E49E0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70E-EE37-4335-A85F-7BF04724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B8B-F33A-42D0-B2FB-C043B5E6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8020-867B-4419-B05A-790B813B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EB22-46B9-4F6F-A45D-D9D29525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214A-7DDF-4A6D-9922-9D66DDBC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9EDF-0E5C-496B-8830-4052F97F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4E57-26CC-4B45-96F8-724B0A3B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FFC2-C59D-453B-BF10-4EC21987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D7BC-E29C-4504-8F09-1E8FF091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99E-C066-4C16-95E0-EC84DA35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3720-542A-4CC6-B4E1-4DC54DEE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59C8-01DC-4A16-9069-0A303369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0A06-E44B-453C-A67C-EA7DA0B8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0825-C06B-47B1-B03F-72E1EF02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FCED-AA3E-44CF-81BE-4210F3F9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C99-7CDA-4028-90BF-A75C7787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297-82A4-4E0F-9823-1A837F83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D75-BAE9-4F94-A917-7B586DDA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858-2CEC-4CCE-A0BC-CCB4B9FF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E56-9A2D-4AFF-AA64-7A983FB0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E8C-4E60-4BD6-8809-69BD3CF3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74D-01F7-4C53-9B0A-78FAD8D1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3100-E837-4E70-806A-5D7834E5D4B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82F5-64F7-4F31-AFDA-389818D091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erseveranc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The Little Engine That Coul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Complete 2 handouts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Tenacious Quotes</a:t>
            </a: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My personal patience rating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rseveranc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orking hard and not giving up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11" descr="j0292020"/>
          <p:cNvPicPr/>
          <p:nvPr/>
        </p:nvPicPr>
        <p:blipFill>
          <a:blip r:embed="rId1"/>
          <a:stretch/>
        </p:blipFill>
        <p:spPr>
          <a:xfrm>
            <a:off x="3770280" y="358128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enacity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lding together and sticking to something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5" descr="j0285410"/>
          <p:cNvPicPr/>
          <p:nvPr/>
        </p:nvPicPr>
        <p:blipFill>
          <a:blip r:embed="rId1"/>
          <a:stretch/>
        </p:blipFill>
        <p:spPr>
          <a:xfrm>
            <a:off x="4343400" y="3276720"/>
            <a:ext cx="281952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he Crow and the Pitche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LEGION</cp:lastModifiedBy>
  <dcterms:modified xsi:type="dcterms:W3CDTF">2015-09-11T10:54:09Z</dcterms:modified>
  <cp:revision>13</cp:revision>
  <dc:subject/>
  <dc:title>Character Education Perseverance</dc:title>
</cp:coreProperties>
</file>